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gif" ContentType="image/gif"/>
  <Override PartName="/ppt/media/image24.gif" ContentType="image/gif"/>
  <Override PartName="/ppt/media/image12.wmf" ContentType="image/x-wmf"/>
  <Override PartName="/ppt/media/image8.png" ContentType="image/png"/>
  <Override PartName="/ppt/media/image14.jpeg" ContentType="image/jpeg"/>
  <Override PartName="/ppt/media/image9.png" ContentType="image/png"/>
  <Override PartName="/ppt/media/image6.gif" ContentType="image/gif"/>
  <Override PartName="/ppt/media/image10.gif" ContentType="image/gif"/>
  <Override PartName="/ppt/media/image4.jpeg" ContentType="image/jpeg"/>
  <Override PartName="/ppt/media/image25.gif" ContentType="image/gif"/>
  <Override PartName="/ppt/media/image11.wmf" ContentType="image/x-wmf"/>
  <Override PartName="/ppt/media/image5.jpeg" ContentType="image/jpeg"/>
  <Override PartName="/ppt/media/image30.jpeg" ContentType="image/jpeg"/>
  <Override PartName="/ppt/media/image3.jpeg" ContentType="image/jpeg"/>
  <Override PartName="/ppt/media/image28.png" ContentType="image/png"/>
  <Override PartName="/ppt/media/image7.jpeg" ContentType="image/jpeg"/>
  <Override PartName="/ppt/media/image1.jpeg" ContentType="image/jpeg"/>
  <Override PartName="/ppt/media/image27.gif" ContentType="image/gif"/>
  <Override PartName="/ppt/media/image15.jpeg" ContentType="image/jpeg"/>
  <Override PartName="/ppt/media/image16.jpeg" ContentType="image/jpeg"/>
  <Override PartName="/ppt/media/image13.wmf" ContentType="image/x-wmf"/>
  <Override PartName="/ppt/media/image17.gif" ContentType="image/gif"/>
  <Override PartName="/ppt/media/image18.jpeg" ContentType="image/jpeg"/>
  <Override PartName="/ppt/media/image2.gif" ContentType="image/gif"/>
  <Override PartName="/ppt/media/image19.jpeg" ContentType="image/jpeg"/>
  <Override PartName="/ppt/media/image29.wmf" ContentType="image/x-wmf"/>
  <Override PartName="/ppt/media/image21.gif" ContentType="image/gif"/>
  <Override PartName="/ppt/media/image26.gif" ContentType="image/gif"/>
  <Override PartName="/ppt/media/image20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1E67-F840-4C66-B894-3587E7E8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C976-9F0B-47F2-A08D-2B8BD46E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A0B3-6BB3-4B96-8EE8-7E3F8FBB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FE26-37E0-4A75-9892-FF4751A3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E1B8-EA36-4BEF-84BB-9498ED9D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C11C-6A90-4512-A0A6-DC428691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B780-FECD-487C-BA28-CFCF4471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11DE-90A3-4676-8E26-1F5FFFF5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135B-C7E7-44AC-9DE5-CD6507FB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E38A-91E1-496D-9F00-BD85CE74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952A-6E13-4698-BF33-5ED88755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C006-366F-49F8-A4EA-1E774F3F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8E37-DAA3-441F-9AD7-E901D94F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5851-A67D-4D71-B787-8C840219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B718-21DB-4E0A-8F01-5A3590C6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89D8-E4B5-430B-9CD4-58360E3D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CEA9-1B15-4A07-98A6-8FCA9324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3725-6DFA-4AE9-926B-BDDCC571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01CA-526E-4F1A-898A-29760A17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4ECE-5D30-45E5-9C58-908132E6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1350-25D2-4490-A336-2BE1D9E6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6B42-C470-421C-97B2-C6D4BD4C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CE27-9BAF-4FB9-9E18-1CAD50B4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F9DB-A6A6-4FFB-913C-6A34B6FF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BE2C-3971-4AE4-AA2F-40D5C309A6C1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488A-0A0D-47B2-954A-13EAF8753BCB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ucai.jz173.com/28/29/466/1963/view267461.html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1.5.2 </a:t>
            </a:r>
            <a:r>
              <a:rPr b="0" lang="zh-CN" sz="6600" spc="-1" strike="noStrike">
                <a:solidFill>
                  <a:srgbClr val="ff3300"/>
                </a:solidFill>
                <a:latin typeface="Arial"/>
              </a:rPr>
              <a:t>科学计数法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609480"/>
            <a:ext cx="84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2057400"/>
            <a:ext cx="6553440" cy="34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重点</a:t>
            </a: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会用科学记数法表示大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整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难点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确使用科学记数法表示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66520" y="0"/>
            <a:ext cx="3551400" cy="1692000"/>
            <a:chOff x="2666520" y="0"/>
            <a:chExt cx="3551400" cy="1692000"/>
          </a:xfrm>
        </p:grpSpPr>
        <p:sp>
          <p:nvSpPr>
            <p:cNvPr id="109" name="filecab3"/>
            <p:cNvSpPr/>
            <p:nvPr/>
          </p:nvSpPr>
          <p:spPr>
            <a:xfrm rot="10800000">
              <a:off x="2666520" y="853200"/>
              <a:ext cx="3551400" cy="83844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重难点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3655800" y="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l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90720" y="17334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3200" spc="-1" strike="noStrike" baseline="38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26000" y="18018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3200" spc="-1" strike="noStrike" baseline="38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88920" y="331488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3200" spc="-1" strike="noStrike" baseline="38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480060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以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底的幂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个数与指数有何关系？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59080" y="173052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34000" y="18018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 000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25640" y="25225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0 000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35440" y="259704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00 000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25938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4360" y="259704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3200" spc="-1" strike="noStrike" baseline="38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…；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41640" y="324468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0 000 000 000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396252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3200" spc="-1" strike="noStrike" baseline="38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98720" y="382104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000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···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0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个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99000" y="53784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等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048120" y="228600"/>
            <a:ext cx="1766880" cy="1295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2590920"/>
            <a:ext cx="75438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1000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1000000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100000000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2819520"/>
            <a:ext cx="2936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=10</a:t>
            </a:r>
            <a:r>
              <a:rPr b="0" lang="en-US" sz="3600" spc="-1" strike="noStrike" baseline="30000">
                <a:solidFill>
                  <a:srgbClr val="ff33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854520"/>
            <a:ext cx="20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=10</a:t>
            </a:r>
            <a:r>
              <a:rPr b="0" lang="en-US" sz="3600" spc="-1" strike="noStrike" baseline="30000">
                <a:solidFill>
                  <a:srgbClr val="ff3300"/>
                </a:solidFill>
                <a:latin typeface="Tahoma"/>
              </a:rPr>
              <a:t>6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49528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=10</a:t>
            </a:r>
            <a:r>
              <a:rPr b="0" lang="en-US" sz="3600" spc="-1" strike="noStrike" baseline="30000">
                <a:solidFill>
                  <a:srgbClr val="ff3300"/>
                </a:solidFill>
                <a:latin typeface="Tahoma"/>
              </a:rPr>
              <a:t>8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1523880"/>
            <a:ext cx="6858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下列各数写成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幂的形式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66680" y="595440"/>
            <a:ext cx="2620800" cy="852480"/>
            <a:chOff x="1066680" y="595440"/>
            <a:chExt cx="2620800" cy="852480"/>
          </a:xfrm>
        </p:grpSpPr>
        <p:sp>
          <p:nvSpPr>
            <p:cNvPr id="132" name=""/>
            <p:cNvSpPr/>
            <p:nvPr/>
          </p:nvSpPr>
          <p:spPr>
            <a:xfrm>
              <a:off x="1535040" y="65412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066680" y="59544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lus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2593800"/>
            <a:ext cx="739152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　</a:t>
            </a:r>
            <a:r>
              <a:rPr b="0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一般地，</a:t>
            </a:r>
            <a:r>
              <a:rPr b="0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10</a:t>
            </a:r>
            <a:r>
              <a:rPr b="0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的</a:t>
            </a:r>
            <a:r>
              <a:rPr b="0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n</a:t>
            </a:r>
            <a:r>
              <a:rPr b="0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次幂等于</a:t>
            </a:r>
            <a:r>
              <a:rPr b="0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10···0</a:t>
            </a:r>
            <a:r>
              <a:rPr b="0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（在</a:t>
            </a:r>
            <a:r>
              <a:rPr b="0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的后面有</a:t>
            </a:r>
            <a:r>
              <a:rPr b="0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n</a:t>
            </a:r>
            <a:r>
              <a:rPr b="0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个</a:t>
            </a:r>
            <a:r>
              <a:rPr b="0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0</a:t>
            </a:r>
            <a:r>
              <a:rPr b="0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）</a:t>
            </a:r>
            <a:r>
              <a:rPr b="0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743200" y="838080"/>
            <a:ext cx="3838680" cy="782640"/>
            <a:chOff x="2743200" y="838080"/>
            <a:chExt cx="3838680" cy="78264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5581800" y="83808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743200" y="950760"/>
              <a:ext cx="2662200" cy="66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0033cc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153753" dir="2700000" blurRad="0" rotWithShape="0">
                <a:srgbClr val="33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>
    <p:checker dir="horz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66680" y="6858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这些大数应该怎样表示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1600200"/>
            <a:ext cx="664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500 000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；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689 000000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786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2981160"/>
            <a:ext cx="769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500 000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5×100 000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5×_________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689 000000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6.89×100 000 00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6.89×_________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78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7.86×100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7.86×_______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692760" y="3133800"/>
            <a:ext cx="482760" cy="406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397480" y="4429080"/>
            <a:ext cx="482760" cy="406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937120" y="5089680"/>
            <a:ext cx="482760" cy="406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71600" y="1579680"/>
            <a:ext cx="6934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1 000=1×_____________;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3 000=3 ×____________;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14 000=1.4× _________;  1460=1.46×___________;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54.7=5.47×_______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1808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62520" y="25700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43400" y="34084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67080" y="41702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50086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806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空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1870200"/>
            <a:ext cx="83818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科学记数法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　　</a:t>
            </a:r>
            <a:r>
              <a:rPr b="0" lang="zh-CN" sz="3400" spc="-1" strike="noStrike">
                <a:solidFill>
                  <a:srgbClr val="0033cc"/>
                </a:solidFill>
                <a:latin typeface="黑体"/>
                <a:ea typeface="黑体"/>
              </a:rPr>
              <a:t>一个大于</a:t>
            </a:r>
            <a:r>
              <a:rPr b="0" lang="en-US" sz="3400" spc="-1" strike="noStrike">
                <a:solidFill>
                  <a:srgbClr val="0033cc"/>
                </a:solidFill>
                <a:latin typeface="黑体"/>
                <a:ea typeface="黑体"/>
              </a:rPr>
              <a:t>10</a:t>
            </a:r>
            <a:r>
              <a:rPr b="0" lang="zh-CN" sz="3400" spc="-1" strike="noStrike">
                <a:solidFill>
                  <a:srgbClr val="0033cc"/>
                </a:solidFill>
                <a:latin typeface="黑体"/>
                <a:ea typeface="黑体"/>
              </a:rPr>
              <a:t>的数可以表示成</a:t>
            </a:r>
            <a:r>
              <a:rPr b="0" lang="en-US" sz="3400" spc="-1" strike="noStrike">
                <a:solidFill>
                  <a:srgbClr val="0033cc"/>
                </a:solidFill>
                <a:latin typeface="黑体"/>
                <a:ea typeface="黑体"/>
              </a:rPr>
              <a:t>a×10</a:t>
            </a:r>
            <a:r>
              <a:rPr b="0" lang="en-US" sz="3400" spc="-1" strike="noStrike" baseline="30000">
                <a:solidFill>
                  <a:srgbClr val="0033cc"/>
                </a:solidFill>
                <a:latin typeface="黑体"/>
                <a:ea typeface="黑体"/>
              </a:rPr>
              <a:t>n</a:t>
            </a:r>
            <a:r>
              <a:rPr b="0" lang="en-US" sz="34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0" lang="zh-CN" sz="3400" spc="-1" strike="noStrike">
                <a:solidFill>
                  <a:srgbClr val="0033cc"/>
                </a:solidFill>
                <a:latin typeface="黑体"/>
                <a:ea typeface="黑体"/>
              </a:rPr>
              <a:t>的形式（其中</a:t>
            </a:r>
            <a:r>
              <a:rPr b="0" lang="en-US" sz="3400" spc="-1" strike="noStrike">
                <a:solidFill>
                  <a:srgbClr val="0033cc"/>
                </a:solidFill>
                <a:latin typeface="黑体"/>
                <a:ea typeface="黑体"/>
              </a:rPr>
              <a:t>a</a:t>
            </a:r>
            <a:r>
              <a:rPr b="0" lang="zh-CN" sz="3400" spc="-1" strike="noStrike">
                <a:solidFill>
                  <a:srgbClr val="0033cc"/>
                </a:solidFill>
                <a:latin typeface="黑体"/>
                <a:ea typeface="黑体"/>
              </a:rPr>
              <a:t>是整数数位只有一位的数，</a:t>
            </a:r>
            <a:r>
              <a:rPr b="0" lang="en-US" sz="3400" spc="-1" strike="noStrike">
                <a:solidFill>
                  <a:srgbClr val="0033cc"/>
                </a:solidFill>
                <a:latin typeface="黑体"/>
                <a:ea typeface="黑体"/>
              </a:rPr>
              <a:t>n</a:t>
            </a:r>
            <a:r>
              <a:rPr b="0" lang="zh-CN" sz="3400" spc="-1" strike="noStrike">
                <a:solidFill>
                  <a:srgbClr val="0033cc"/>
                </a:solidFill>
                <a:latin typeface="黑体"/>
                <a:ea typeface="黑体"/>
              </a:rPr>
              <a:t>是正整数），这种记数方法叫做科学记数法</a:t>
            </a:r>
            <a:r>
              <a:rPr b="0" lang="en-US" sz="3400" spc="-1" strike="noStrike">
                <a:solidFill>
                  <a:srgbClr val="0033cc"/>
                </a:solidFill>
                <a:latin typeface="黑体"/>
                <a:ea typeface="黑体"/>
              </a:rPr>
              <a:t>. </a:t>
            </a:r>
            <a:endParaRPr b="0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895480" y="762120"/>
            <a:ext cx="3838680" cy="782640"/>
            <a:chOff x="2895480" y="762120"/>
            <a:chExt cx="3838680" cy="78264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5734080" y="76212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895480" y="874800"/>
              <a:ext cx="2662200" cy="66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0000ff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153753" dir="2700000" blurRad="0" rotWithShape="0">
                <a:srgbClr val="33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>
    <p:checker dir="vert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357200" y="1447920"/>
            <a:ext cx="2833920" cy="3276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419720" y="2057400"/>
            <a:ext cx="3809880" cy="1371600"/>
          </a:xfrm>
          <a:prstGeom prst="wedgeRoundRectCallout">
            <a:avLst>
              <a:gd name="adj1" fmla="val -50833"/>
              <a:gd name="adj2" fmla="val 86574"/>
              <a:gd name="adj3" fmla="val 16667"/>
            </a:avLst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世界人口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6 100 000 000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4876920"/>
            <a:ext cx="64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 100 000 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1×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6858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科学记数法表示下列语言中的大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5638680"/>
            <a:ext cx="641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读作：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6.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乘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次方（幂）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676520" y="609480"/>
            <a:ext cx="6476760" cy="4040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590920" y="4419720"/>
            <a:ext cx="632448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0 000 000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______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696 000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____________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77960" y="4600440"/>
            <a:ext cx="11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×10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95640" y="541008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6.96×10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182772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光年即约为九万四千六百亿千米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51055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4 600 000 000 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.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60800" y="749160"/>
            <a:ext cx="3726000" cy="38991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589720" y="5029200"/>
            <a:ext cx="18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9.46×10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imes New Roman"/>
              </a:rPr>
              <a:t>13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3183480"/>
            <a:ext cx="769608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有一个故事，说的是一个财主的孩子不爱学习，财主把他送到学堂，说学会计帐就行了，于是老师只教他写数字，第一天教个“一”，第二天是“二”，第三天是“三”。第四天这个孩子不上学了，财主问他儿子怎么不去了，他儿子说他学会了。于是财主叫他记帐，第一天就忙坏他了，因为两个欠帐人的名字是“千百万”和“万百千”，于是那个笨孩子就用梳子按着写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如果要你书写生活中的大数，你会怎么办？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047760" y="-150840"/>
            <a:ext cx="2849400" cy="1707840"/>
            <a:chOff x="3047760" y="-150840"/>
            <a:chExt cx="2849400" cy="1707840"/>
          </a:xfrm>
        </p:grpSpPr>
        <p:sp>
          <p:nvSpPr>
            <p:cNvPr id="84" name="filecab3"/>
            <p:cNvSpPr/>
            <p:nvPr/>
          </p:nvSpPr>
          <p:spPr>
            <a:xfrm rot="10800000">
              <a:off x="3047760" y="719280"/>
              <a:ext cx="2849400" cy="83736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新课导入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3665520" y="-150840"/>
              <a:ext cx="1619280" cy="1218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90720" y="6094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用科学记数法表示下列各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29528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0 000 000 000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53 000 000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56 900 000 000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 360 000 000 000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2514600"/>
            <a:ext cx="68580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解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0 000 000 00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3200" spc="-1" strike="noStrike" baseline="30000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453 000 00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4.53×10</a:t>
            </a:r>
            <a:r>
              <a:rPr b="1" lang="zh-CN" sz="3200" spc="-1" strike="noStrike" baseline="30000">
                <a:solidFill>
                  <a:srgbClr val="ff33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56 900 000 00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5.69×10</a:t>
            </a:r>
            <a:r>
              <a:rPr b="1" lang="zh-CN" sz="3200" spc="-1" strike="noStrike" baseline="30000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 360 000 000 000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.36×10</a:t>
            </a:r>
            <a:r>
              <a:rPr b="1" lang="zh-CN" sz="3200" spc="-1" strike="noStrike" baseline="30000">
                <a:solidFill>
                  <a:srgbClr val="ff33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14400" y="129528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用科学记数法表示一个数时，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0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的指数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n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与原数的整数位数有什么关系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2208240" cy="2286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514600" y="4724280"/>
            <a:ext cx="5181480" cy="1295640"/>
          </a:xfrm>
          <a:prstGeom prst="wedgeRoundRectCallout">
            <a:avLst>
              <a:gd name="adj1" fmla="val -63449"/>
              <a:gd name="adj2" fmla="val -98773"/>
              <a:gd name="adj3" fmla="val 16667"/>
            </a:avLst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的指数比原数的整数位数少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410080" y="27432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90720" y="5235480"/>
            <a:ext cx="7391160" cy="5875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       </a:t>
            </a:r>
            <a:r>
              <a:rPr b="0" lang="zh-CN" sz="3600" spc="-1" strike="noStrike">
                <a:solidFill>
                  <a:srgbClr val="0033cc"/>
                </a:solidFill>
                <a:latin typeface="Tahoma"/>
                <a:ea typeface="隶书"/>
              </a:rPr>
              <a:t>技巧：先将单位改写成数，再用科学记数法</a:t>
            </a:r>
            <a:r>
              <a:rPr b="0" lang="en-US" sz="3600" spc="-1" strike="noStrike">
                <a:solidFill>
                  <a:srgbClr val="0033cc"/>
                </a:solidFill>
                <a:latin typeface="Tahoma"/>
                <a:ea typeface="隶书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9907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用科学记数法表示下列各数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72116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008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日，四川汶川发生了特大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　　   震．震后，国内外纷纷向灾区捐物捐款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　　   截至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日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时，捐款达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08.7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亿元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5·1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汶川大地震”发生后，中央电视台于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8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日承办了《爱的奉献》晚会，共募集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善款约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 514 000 000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元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7720" y="4267080"/>
            <a:ext cx="72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08.7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亿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08 760 000 00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.0876×10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11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 514 000 00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.154×10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036800" y="152280"/>
            <a:ext cx="2620800" cy="852480"/>
            <a:chOff x="1036800" y="152280"/>
            <a:chExt cx="2620800" cy="852480"/>
          </a:xfrm>
        </p:grpSpPr>
        <p:sp>
          <p:nvSpPr>
            <p:cNvPr id="180" name=""/>
            <p:cNvSpPr/>
            <p:nvPr/>
          </p:nvSpPr>
          <p:spPr>
            <a:xfrm>
              <a:off x="1505160" y="21096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1036800" y="15228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mb dir="horz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3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8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3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09480" y="3886200"/>
            <a:ext cx="78487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国家投资建设的泰州长江大桥已经开工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据泰州日报报道，大桥预算总造价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 370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000 00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元人民币，用科学记数法表示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295360" y="609480"/>
            <a:ext cx="4638960" cy="31291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600200" y="56386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9 370 000 00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9.37×10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38080" y="685800"/>
            <a:ext cx="7696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我国是一个严重缺水国家，大家应珍惜水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资源，节约用水。据测试，拧不紧的水龙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头   每秒钟会滴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滴水，每滴水约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0.0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毫升．小明在洗手后，没有把水龙头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紧，当他离开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小时后才被人发现并把水龙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头拧紧，你能算出这期间浪费了多少毫升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吗？（结果用科学记数法表示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4114800"/>
            <a:ext cx="670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解：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5×3600×2×0.05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80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8×10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毫升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答：这期间浪费了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8×10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毫升水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91520" y="3809880"/>
            <a:ext cx="1752480" cy="2210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38080" y="654120"/>
            <a:ext cx="792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天安门广场的面积约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.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千万平方米，如果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我们在那里军训（每个人占地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0.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㎡），估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计天安门广场最多可容纳多少名站成方阵军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训的学生吗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3124080" cy="19810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143000" y="454176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解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4.40 000 000÷0.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.1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1" lang="zh-CN" sz="3200" spc="-1" strike="noStrike" baseline="30000">
                <a:solidFill>
                  <a:srgbClr val="ff33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名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答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天安门广场最多可容纳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.1×10</a:t>
            </a:r>
            <a:r>
              <a:rPr b="1" lang="zh-CN" sz="3200" spc="-1" strike="noStrike" baseline="30000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名站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成方阵军训的学生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2514600" y="28954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62120" y="990720"/>
            <a:ext cx="81532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一粒纽扣电池能够污染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升水，台州市每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报废的电池有近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 000 00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粒，如果废旧电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回收，一年报废的电池所污染的水约多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升（用科学记数法表示 ） 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93840" y="3632040"/>
            <a:ext cx="664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解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0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×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0 000 000 = 600 000 000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升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518148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答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一年报废的电池所污染的水约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6 ×10</a:t>
            </a:r>
            <a:r>
              <a:rPr b="1" lang="en-US" sz="2800" spc="-1" strike="noStrike" baseline="30000">
                <a:solidFill>
                  <a:srgbClr val="ff33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升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4343400"/>
            <a:ext cx="327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6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×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宋体"/>
              </a:rPr>
              <a:t>8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升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209680" y="287280"/>
            <a:ext cx="5943600" cy="459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838080" y="11574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下列用科学记数法写出的数，原来分别是什么数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809720" y="2438280"/>
            <a:ext cx="2362320" cy="2195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476600" y="2514600"/>
            <a:ext cx="46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 500 000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52920" y="33526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43 000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52920" y="4191120"/>
            <a:ext cx="276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58  600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5029200"/>
            <a:ext cx="7467480" cy="5875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技巧：</a:t>
            </a:r>
            <a:r>
              <a:rPr b="0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10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的指数是几，小数点就向后移动几位</a:t>
            </a:r>
            <a:r>
              <a:rPr b="0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905120" y="0"/>
            <a:ext cx="3519360" cy="1185840"/>
            <a:chOff x="1905120" y="0"/>
            <a:chExt cx="3519360" cy="1185840"/>
          </a:xfrm>
        </p:grpSpPr>
        <p:pic>
          <p:nvPicPr>
            <p:cNvPr id="204" name="" descr=""/>
            <p:cNvPicPr/>
            <p:nvPr/>
          </p:nvPicPr>
          <p:blipFill>
            <a:blip r:embed="rId3"/>
            <a:stretch/>
          </p:blipFill>
          <p:spPr>
            <a:xfrm>
              <a:off x="4472280" y="0"/>
              <a:ext cx="9522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Cloud"/>
            <p:cNvSpPr/>
            <p:nvPr/>
          </p:nvSpPr>
          <p:spPr>
            <a:xfrm>
              <a:off x="1905120" y="0"/>
              <a:ext cx="2567160" cy="11858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2425680" y="152280"/>
              <a:ext cx="15242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想一想</a:t>
              </a:r>
              <a:endPara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</p:spTree>
  </p:cSld>
  <p:transition>
    <p:pull dir="rd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084720" y="18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5280" y="59500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9144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用科学记数法表示的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来各是什么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199656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我国第一颗探月卫星“嫦娥一号”从环月轨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传回第一张月面照片时距地球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3.8×10</a:t>
            </a:r>
            <a:r>
              <a:rPr b="1" lang="zh-CN" sz="2800" spc="-1" strike="noStrike" baseline="30000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公里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2008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日北京奥运会火炬接力传递活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在美丽的海滨城市汕头举行，整个火炬传递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路线全长约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4.082×10</a:t>
            </a:r>
            <a:r>
              <a:rPr b="1" lang="zh-CN" sz="2800" spc="-1" strike="noStrike" baseline="30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米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2008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北京奥运会主会场“鸟巢”的座席数是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9.1×10</a:t>
            </a:r>
            <a:r>
              <a:rPr b="1" lang="zh-CN" sz="2800" spc="-1" strike="noStrike" baseline="30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个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284796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.8×10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80 000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4586400"/>
            <a:ext cx="42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.082×10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0 82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72560" y="5881680"/>
            <a:ext cx="27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9.1×10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91 000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036800" y="76320"/>
            <a:ext cx="2620800" cy="852480"/>
            <a:chOff x="1036800" y="76320"/>
            <a:chExt cx="2620800" cy="852480"/>
          </a:xfrm>
        </p:grpSpPr>
        <p:sp>
          <p:nvSpPr>
            <p:cNvPr id="215" name=""/>
            <p:cNvSpPr/>
            <p:nvPr/>
          </p:nvSpPr>
          <p:spPr>
            <a:xfrm>
              <a:off x="1505160" y="13500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216" name="" descr=""/>
            <p:cNvPicPr/>
            <p:nvPr/>
          </p:nvPicPr>
          <p:blipFill>
            <a:blip r:embed="rId2"/>
            <a:stretch/>
          </p:blipFill>
          <p:spPr>
            <a:xfrm>
              <a:off x="1036800" y="7632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038480" y="0"/>
            <a:ext cx="1905120" cy="647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8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9" dur="10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1905120"/>
            <a:ext cx="838188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．用科学记数法来表示大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　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一般形式：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a×10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  <a:ea typeface="华文中宋"/>
              </a:rPr>
              <a:t>n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（ １≤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a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＜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1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，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n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为正整数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．用科学记数法表示大数的好处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．用科学记数法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a×10</a:t>
            </a:r>
            <a:r>
              <a:rPr b="0" lang="en-US" sz="3200" spc="-1" strike="noStrike" baseline="30000">
                <a:solidFill>
                  <a:srgbClr val="0033cc"/>
                </a:solidFill>
                <a:latin typeface="Times New Roman"/>
                <a:ea typeface="华文中宋"/>
              </a:rPr>
              <a:t>n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表示大数关键要注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　  两点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　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（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）１≤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a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＜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1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；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　   （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）当大数是大于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1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的整数时，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n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为整数位数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           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去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1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123720" y="0"/>
            <a:ext cx="2849400" cy="1709640"/>
            <a:chOff x="3123720" y="0"/>
            <a:chExt cx="2849400" cy="1709640"/>
          </a:xfrm>
        </p:grpSpPr>
        <p:sp>
          <p:nvSpPr>
            <p:cNvPr id="220" name="filecab3"/>
            <p:cNvSpPr/>
            <p:nvPr/>
          </p:nvSpPr>
          <p:spPr>
            <a:xfrm rot="10800000">
              <a:off x="312372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课堂小结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3741480" y="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4933800" cy="3714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959440" y="2895480"/>
            <a:ext cx="326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太阳的半径约为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696 000 000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62120" y="2209680"/>
            <a:ext cx="784836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用科学记数法表示下列各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 02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6 100 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340 000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5029200"/>
            <a:ext cx="68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002×10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.61×10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.34×10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200040" y="0"/>
            <a:ext cx="2849400" cy="1709640"/>
            <a:chOff x="3200040" y="0"/>
            <a:chExt cx="2849400" cy="1709640"/>
          </a:xfrm>
        </p:grpSpPr>
        <p:sp>
          <p:nvSpPr>
            <p:cNvPr id="225" name="filecab3"/>
            <p:cNvSpPr/>
            <p:nvPr/>
          </p:nvSpPr>
          <p:spPr>
            <a:xfrm rot="10800000">
              <a:off x="320004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随堂练习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2"/>
            <a:stretch/>
          </p:blipFill>
          <p:spPr>
            <a:xfrm>
              <a:off x="3817800" y="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838080" y="1295280"/>
            <a:ext cx="799164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下列用科学记数法记出的数，写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原来的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31×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.52×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.4×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63×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4572000"/>
            <a:ext cx="595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 310 00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；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652 00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940 000 00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；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 630 000 000.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2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2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2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2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95280" y="1219320"/>
            <a:ext cx="708660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230 000 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科学记数法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  写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23×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n-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形式，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值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438280" y="4038480"/>
            <a:ext cx="1247760" cy="18478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724280" y="3048120"/>
            <a:ext cx="2743200" cy="1752480"/>
          </a:xfrm>
          <a:prstGeom prst="cloudCallout">
            <a:avLst>
              <a:gd name="adj1" fmla="val -92189"/>
              <a:gd name="adj2" fmla="val 42393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914400" y="1066680"/>
            <a:ext cx="822960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用科学记数法表示下列各数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太阳的半径约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96 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一天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6 4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秒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000 000 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纳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47920" y="4191120"/>
            <a:ext cx="4190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6.96×10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8.64×10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638680" y="4114800"/>
            <a:ext cx="1600200" cy="1528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3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6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9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14400" y="609480"/>
            <a:ext cx="769608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一个正常人的平均心跳约为每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年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6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）大约跳几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用科学记数法表示这个结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个正常人一生心跳次数能达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亿次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124000" y="3800520"/>
            <a:ext cx="2524320" cy="2143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5562720" y="3429000"/>
            <a:ext cx="1962000" cy="2664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01"/>
                            </p:stCondLst>
                            <p:childTnLst>
                              <p:par>
                                <p:cTn id="9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295280" y="685800"/>
            <a:ext cx="701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解：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70×60×24 ×365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679200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　　　　　　　　  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.6792 ×10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47920" y="2971800"/>
            <a:ext cx="67816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答：一个正常人的心跳一年大约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.6792×10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次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一个正常人一生心跳次数能过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到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亿次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5727600" y="1600200"/>
            <a:ext cx="2121120" cy="14731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231560" y="1828800"/>
            <a:ext cx="43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 000 000 000÷(3.6792 ×1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8305560" cy="2879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11480" y="5181480"/>
            <a:ext cx="46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光的速度约为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0 000 000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米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秒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43000" y="541008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2.95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亿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= 1 295 000 000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55880" y="4800600"/>
            <a:ext cx="549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第五次人口普查时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中国人口约为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2.95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亿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286000" y="685800"/>
            <a:ext cx="4583160" cy="3962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14600" y="9907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注意这些数据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1571760" cy="1627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05120" y="3048120"/>
            <a:ext cx="6858000" cy="2895480"/>
          </a:xfrm>
          <a:prstGeom prst="wedgeRoundRectCallout">
            <a:avLst>
              <a:gd name="adj1" fmla="val -55208"/>
              <a:gd name="adj2" fmla="val -85143"/>
              <a:gd name="adj3" fmla="val 16667"/>
            </a:avLst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295 000 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96 000 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 000 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460800000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千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··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简单的表示方法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480" y="25146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4724280"/>
            <a:ext cx="7543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276360" y="95400"/>
            <a:ext cx="2849400" cy="1709640"/>
            <a:chOff x="3276360" y="95400"/>
            <a:chExt cx="2849400" cy="1709640"/>
          </a:xfrm>
        </p:grpSpPr>
        <p:sp>
          <p:nvSpPr>
            <p:cNvPr id="99" name="filecab3"/>
            <p:cNvSpPr/>
            <p:nvPr/>
          </p:nvSpPr>
          <p:spPr>
            <a:xfrm rot="10800000">
              <a:off x="3276360" y="9666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3894120" y="9540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685800" y="2209680"/>
            <a:ext cx="74674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知识与能力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乘方，进行科学记数法，会用科学记数法表示大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过程与方法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会科学记数法的好处、化繁为简的方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2514600"/>
            <a:ext cx="769608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情感态度与价值观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科学记数法的学习，从多种角度感受大数．正确使用科学记数法，表现出一丝不苟的精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200040" y="380880"/>
            <a:ext cx="2849400" cy="1709640"/>
            <a:chOff x="3200040" y="380880"/>
            <a:chExt cx="2849400" cy="1709640"/>
          </a:xfrm>
        </p:grpSpPr>
        <p:sp>
          <p:nvSpPr>
            <p:cNvPr id="104" name="filecab3"/>
            <p:cNvSpPr/>
            <p:nvPr/>
          </p:nvSpPr>
          <p:spPr>
            <a:xfrm rot="10800000">
              <a:off x="3200040" y="125208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3817800" y="38088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09:03:23Z</dcterms:created>
  <dc:creator/>
  <dc:description/>
  <cp:keywords/>
  <dc:language>en-US</dc:language>
  <cp:lastModifiedBy>微软用户</cp:lastModifiedBy>
  <dcterms:modified xsi:type="dcterms:W3CDTF">2014-06-30T01:04:04Z</dcterms:modified>
  <cp:revision>71</cp:revision>
  <dc:subject/>
  <dc:title>1.5.2科学记数法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  <property fmtid="{D5CDD505-2E9C-101B-9397-08002B2CF9AE}" pid="3" name="NXTAG2">
    <vt:lpwstr>000800f2150000000000010250600207f7000400038000</vt:lpwstr>
  </property>
  <property fmtid="{D5CDD505-2E9C-101B-9397-08002B2CF9AE}" pid="4" name="Version">
    <vt:r8>1</vt:r8>
  </property>
</Properties>
</file>